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8E59-3878-4576-96E2-BAB09E0A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AD7-E58D-4426-A941-3615E791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4DFF-4082-4E72-9B39-A889476B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DA13-6680-4359-AF5A-9DD3ADAF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A057-F531-4F74-AFE1-7BBECE7C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776F-5309-497B-B809-EE217262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58F-41EB-4375-A7C4-369C8B5F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41F-3D27-4A25-95E5-C2965B9E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9E9-2A5A-48FD-A4FA-2B98454B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CD2-3D55-480A-AB21-80927187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8526-D83E-4318-BCF3-653885BF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5E7C-B325-4C30-B56D-50C1F636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2850-05F4-4B4E-AFC4-3DACD2072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NA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(Deoxyribonucleic Aci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Chargaff’s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e9b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Aden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pair with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Thy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3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Guan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pair with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t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amounts in a given DNA molecule will be </a:t>
            </a:r>
            <a:r>
              <a:rPr b="1" lang="en-US" sz="2800" spc="-1" strike="noStrike">
                <a:solidFill>
                  <a:srgbClr val="316501"/>
                </a:solidFill>
                <a:latin typeface="Arial"/>
              </a:rPr>
              <a:t>about the s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026320" y="4897440"/>
            <a:ext cx="3177720" cy="1351080"/>
            <a:chOff x="5026320" y="4897440"/>
            <a:chExt cx="3177720" cy="1351080"/>
          </a:xfrm>
        </p:grpSpPr>
        <p:sp>
          <p:nvSpPr>
            <p:cNvPr id="205" name=""/>
            <p:cNvSpPr/>
            <p:nvPr/>
          </p:nvSpPr>
          <p:spPr>
            <a:xfrm>
              <a:off x="581652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4076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3333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0232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30920" y="586728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02320" y="6248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05520" y="55785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2976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7933400">
              <a:off x="5143320" y="5067000"/>
              <a:ext cx="838080" cy="762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244520" y="4944960"/>
            <a:ext cx="3097440" cy="1278000"/>
            <a:chOff x="1244520" y="4944960"/>
            <a:chExt cx="3097440" cy="1278000"/>
          </a:xfrm>
        </p:grpSpPr>
        <p:sp>
          <p:nvSpPr>
            <p:cNvPr id="214" name=""/>
            <p:cNvSpPr/>
            <p:nvPr/>
          </p:nvSpPr>
          <p:spPr>
            <a:xfrm>
              <a:off x="276876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4452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0099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58920" y="58672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3032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09840" y="5578560"/>
              <a:ext cx="397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57760" y="55785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0824200">
              <a:off x="3429000" y="5028840"/>
              <a:ext cx="838080" cy="762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479840" y="3048120"/>
            <a:ext cx="930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28600" y="168120"/>
          <a:ext cx="8458200" cy="6343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8120"/>
                    <a:ext cx="8458200" cy="634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BASE-PAI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010520" y="1781280"/>
            <a:ext cx="5669640" cy="2562120"/>
            <a:chOff x="1010520" y="1781280"/>
            <a:chExt cx="5669640" cy="2562120"/>
          </a:xfrm>
        </p:grpSpPr>
        <p:sp>
          <p:nvSpPr>
            <p:cNvPr id="227" name=""/>
            <p:cNvSpPr/>
            <p:nvPr/>
          </p:nvSpPr>
          <p:spPr>
            <a:xfrm>
              <a:off x="4902120" y="2844720"/>
              <a:ext cx="1778040" cy="1473120"/>
            </a:xfrm>
            <a:prstGeom prst="hexagon">
              <a:avLst>
                <a:gd name="adj" fmla="val 30169"/>
                <a:gd name="vf" fmla="val 115470"/>
              </a:avLst>
            </a:prstGeom>
            <a:solidFill>
              <a:srgbClr val="3333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63840" y="2844720"/>
              <a:ext cx="1778040" cy="1473120"/>
            </a:xfrm>
            <a:prstGeom prst="hexagon">
              <a:avLst>
                <a:gd name="adj" fmla="val 30169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48680" y="32925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33720" y="32925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35440" y="281952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92640" y="35812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35440" y="434340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29000" y="2043000"/>
              <a:ext cx="1415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-bo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635000" y="2527200"/>
              <a:ext cx="10188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8044400">
              <a:off x="1281960" y="2070720"/>
              <a:ext cx="1527120" cy="150048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463840" y="4209840"/>
            <a:ext cx="5732280" cy="2577240"/>
            <a:chOff x="2463840" y="4209840"/>
            <a:chExt cx="5732280" cy="2577240"/>
          </a:xfrm>
        </p:grpSpPr>
        <p:sp>
          <p:nvSpPr>
            <p:cNvPr id="238" name=""/>
            <p:cNvSpPr/>
            <p:nvPr/>
          </p:nvSpPr>
          <p:spPr>
            <a:xfrm rot="120000">
              <a:off x="4978440" y="5283000"/>
              <a:ext cx="1778040" cy="1473120"/>
            </a:xfrm>
            <a:prstGeom prst="hexagon">
              <a:avLst>
                <a:gd name="adj" fmla="val 30169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63840" y="5283360"/>
              <a:ext cx="1778040" cy="1473120"/>
            </a:xfrm>
            <a:prstGeom prst="hexagon">
              <a:avLst>
                <a:gd name="adj" fmla="val 30169"/>
                <a:gd name="vf" fmla="val 115470"/>
              </a:avLst>
            </a:prstGeom>
            <a:solidFill>
              <a:srgbClr val="0099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10040" y="5730840"/>
              <a:ext cx="397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24280" y="5686560"/>
              <a:ext cx="475560" cy="57636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92640" y="6019920"/>
              <a:ext cx="71100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35440" y="525780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3411600">
              <a:off x="6386760" y="4509000"/>
              <a:ext cx="1527120" cy="1500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Genetic Diversit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fferent arrangements of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UCLEOTIDE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in a nucleic acid (DNA) provides the key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IVERSITY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among living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3978000" cy="3089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3921120" cy="25146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715000" y="434340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he Code of Lif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“code” of the chromosome is 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PECIFIC ORDER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that bases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A T C G T A T G C G G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739116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160" y="51051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is wrapped tightly around </a:t>
            </a:r>
            <a:r>
              <a:rPr b="1" lang="en-US" sz="4000" spc="-1" strike="noStrike" u="sng">
                <a:solidFill>
                  <a:srgbClr val="00279f"/>
                </a:solidFill>
                <a:uFillTx/>
                <a:latin typeface="Arial"/>
              </a:rPr>
              <a:t>histon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coiled tightly to form chromoso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4876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029200" y="3808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e p. 2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NA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plic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19160" y="1066680"/>
            <a:ext cx="6095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NA must be cop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 DNA molecule produces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2 IDENTICAL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new complementary strands following the rules of base pairing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A-T, G-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2666880" cy="3200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105520" y="4710240"/>
            <a:ext cx="4038480" cy="2147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57200" y="4724280"/>
            <a:ext cx="45720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ach strand of the original DNA serves as a template for the new strand   </a:t>
            </a: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See p. 2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DNA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23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Semiconservative Mod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</a:rPr>
              <a:t>Watson and Crick showed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he two strands of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rental molecule</a:t>
            </a:r>
            <a:r>
              <a:rPr b="1" lang="en-US" sz="2200" spc="-1" strike="noStrike">
                <a:solidFill>
                  <a:srgbClr val="009688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parate, and each functions as a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mplat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for synthesis of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complementary str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701720" y="5159520"/>
            <a:ext cx="2158920" cy="707760"/>
            <a:chOff x="1701720" y="5159520"/>
            <a:chExt cx="2158920" cy="707760"/>
          </a:xfrm>
        </p:grpSpPr>
        <p:sp>
          <p:nvSpPr>
            <p:cNvPr id="264" name=""/>
            <p:cNvSpPr/>
            <p:nvPr/>
          </p:nvSpPr>
          <p:spPr>
            <a:xfrm>
              <a:off x="1701720" y="563868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01720" y="586728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39160" y="5159520"/>
              <a:ext cx="1639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arental 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124160" y="4778280"/>
            <a:ext cx="3318840" cy="1622520"/>
            <a:chOff x="4124160" y="4778280"/>
            <a:chExt cx="3318840" cy="1622520"/>
          </a:xfrm>
        </p:grpSpPr>
        <p:sp>
          <p:nvSpPr>
            <p:cNvPr id="268" name=""/>
            <p:cNvSpPr/>
            <p:nvPr/>
          </p:nvSpPr>
          <p:spPr>
            <a:xfrm flipV="1">
              <a:off x="4127400" y="5397480"/>
              <a:ext cx="58428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24160" y="5891040"/>
              <a:ext cx="590760" cy="1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83360" y="510552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83360" y="54100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83360" y="640080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83360" y="60958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00960" y="4778280"/>
              <a:ext cx="1742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Arial"/>
                </a:rPr>
                <a:t>DNA Templ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01320" y="5388120"/>
              <a:ext cx="120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50069"/>
                  </a:solidFill>
                  <a:latin typeface="Arial"/>
                </a:rPr>
                <a:t>New 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172200" y="457200"/>
            <a:ext cx="24703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.  Why is replication necess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.  When does replication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.  Describe how replication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cc33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se the complementary rul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reate the complementary strand: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485680" y="358128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3581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8114040" y="3621600"/>
            <a:ext cx="458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7961400" y="430704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5579640" y="2887200"/>
            <a:ext cx="5299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3240" y="15840"/>
            <a:ext cx="336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Replication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.  Why is replication necess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 both new cells will have the correct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2.  When does replication occ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uring interphase (S phas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3.  Describe how replication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nzymes unzip DNA and complementary nucleotides join each original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4.  Use the complementary rul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reate the complementary strand: </a:t>
            </a:r>
            <a:r>
              <a:rPr b="1" lang="en-US" sz="7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485680" y="358128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86400" y="3581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8114040" y="3621600"/>
            <a:ext cx="458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7961400" y="430704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5579640" y="2584080"/>
            <a:ext cx="5299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3240" y="15840"/>
            <a:ext cx="336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Replication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1961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Watson &amp; Crick propos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NA controlled cell function by serving as a template for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ROTEIN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 Nucleotides = a triplet or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which code for a specific AMINO AC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See p.3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MINO ACID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are the building blocks of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NA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NA can “unzip” itself an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N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nucleotides match up to the DNA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oth DNA &amp; RNA are formed from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UCLEOTIDE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and are called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UCLEIC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209680" y="3200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ee p.3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521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NA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cell uses information from “messenger” RNA to produce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038480" cy="51055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3124080"/>
            <a:ext cx="4267080" cy="34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ee p.304-3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be0e3"/>
                </a:solidFill>
                <a:latin typeface="Arial"/>
              </a:rPr>
              <a:t>We will discuss details of this on a later 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cription/Translation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is transcription necessa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be transcrip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is translation necessa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be transl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the main differences between DNA and R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the chart on page 303, identify the amino acids coded for by these cod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GGCAGUG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Why is transcription necessa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nscription makes messenger RNA (MRNA) to carry the code for proteins out of the nucleus to the ribosomes in the cytopla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Describe transcri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NA polymerase binds to DNA, separates the strands, then uses one strand as a template to assemble MR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Why is translation necess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nslation assures that the right amino acids are joined together by peptides to form the correct pro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Describe translation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cell uses information from MRNA to produce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What are the main differences between DNA and R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NA has deoxyribose, RNA has ribose; DNA has 2 strands, RNA has one strand; DNA has thymine, RNA has uracil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chart on page 303, identify the amino acids coded for by these codons: UGGCAGU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yptophan-glutamine-cyste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MAZING DNA FAC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DNA from a single human cell extends in a single thread for almost 2 meters lo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t contains information equal to some 600,000 printed pages of 500 words each!!!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(a library of about 1,000 boo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768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LET’S REVIEW DNA…</a:t>
            </a:r>
            <a:br>
              <a:rPr sz="48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M p.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ist the conclusions Griffith &amp; Avery, Hershey &amp; Chase drew from their experi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ize the relationship between genes &amp; D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escribe the overall structure of the DNA molec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are the 4 kinds of b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Genetic material of cell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NES – units of genetic material that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DES FOR A SPECIFIC T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alled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UCLEIC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NA is made up of repeating molecules called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DNA Nucleo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58720" y="1433520"/>
            <a:ext cx="2235240" cy="2732040"/>
            <a:chOff x="558720" y="1433520"/>
            <a:chExt cx="2235240" cy="2732040"/>
          </a:xfrm>
        </p:grpSpPr>
        <p:sp>
          <p:nvSpPr>
            <p:cNvPr id="50" name=""/>
            <p:cNvSpPr/>
            <p:nvPr/>
          </p:nvSpPr>
          <p:spPr>
            <a:xfrm>
              <a:off x="558720" y="231156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6280" y="2486160"/>
              <a:ext cx="146016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5800" y="1433520"/>
              <a:ext cx="1737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600200" y="33274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600200" y="28702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58920" y="327672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984200" y="1535400"/>
            <a:ext cx="4156200" cy="4071240"/>
            <a:chOff x="4984200" y="1535400"/>
            <a:chExt cx="4156200" cy="4071240"/>
          </a:xfrm>
        </p:grpSpPr>
        <p:sp>
          <p:nvSpPr>
            <p:cNvPr id="57" name=""/>
            <p:cNvSpPr/>
            <p:nvPr/>
          </p:nvSpPr>
          <p:spPr>
            <a:xfrm rot="1800000">
              <a:off x="5358960" y="200664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86760" y="4359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5562720" y="434304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6400" y="4786200"/>
              <a:ext cx="2754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900000" y="2797200"/>
            <a:ext cx="5148720" cy="4020840"/>
            <a:chOff x="900000" y="2797200"/>
            <a:chExt cx="5148720" cy="4020840"/>
          </a:xfrm>
        </p:grpSpPr>
        <p:sp>
          <p:nvSpPr>
            <p:cNvPr id="62" name=""/>
            <p:cNvSpPr/>
            <p:nvPr/>
          </p:nvSpPr>
          <p:spPr>
            <a:xfrm>
              <a:off x="2806200" y="2987640"/>
              <a:ext cx="891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00400" y="382572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96840" y="502920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0099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77320" y="5105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009999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96440" y="6302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009999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96640" y="6302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009999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57400" y="27972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00000" y="5624640"/>
              <a:ext cx="2179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565"/>
                </a:solidFill>
                <a:latin typeface="Arial"/>
              </a:rPr>
              <a:t>A HISTORY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overy of the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NA double hel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Frederick Griff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covers that a factor in diseased bacteria can transform harmless bacteria into deadly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osalind Frankl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X-ray photo of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Watson and Cri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scribed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molecule from Franklin’s X-r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407960" cy="2133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315200" y="2362320"/>
            <a:ext cx="149076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77120" y="4724280"/>
            <a:ext cx="2438280" cy="1922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581280" y="1371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p. 292-2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atson &amp; Crick propos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447920"/>
            <a:ext cx="8001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NA had specific pairing between th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itrogen b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ENIN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THY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YTOSIN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UA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NA was made of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2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long stands of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ucleotides arranged in a specific way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alled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“Complementary Ru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DNA Double Hel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581120" y="1752480"/>
            <a:ext cx="2801880" cy="4764240"/>
            <a:chOff x="1581120" y="1752480"/>
            <a:chExt cx="2801880" cy="4764240"/>
          </a:xfrm>
        </p:grpSpPr>
        <p:sp>
          <p:nvSpPr>
            <p:cNvPr id="84" name=""/>
            <p:cNvSpPr/>
            <p:nvPr/>
          </p:nvSpPr>
          <p:spPr>
            <a:xfrm>
              <a:off x="1581120" y="1752480"/>
              <a:ext cx="2649600" cy="4611960"/>
            </a:xfrm>
            <a:custGeom>
              <a:avLst/>
              <a:gdLst/>
              <a:ahLst/>
              <a:rect l="l" t="t" r="r" b="b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33400" y="1905120"/>
              <a:ext cx="2649600" cy="4611600"/>
            </a:xfrm>
            <a:custGeom>
              <a:avLst/>
              <a:gdLst/>
              <a:ahLst/>
              <a:rect l="l" t="t" r="r" b="b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486400" y="1701720"/>
            <a:ext cx="1371600" cy="4826160"/>
            <a:chOff x="5486400" y="1701720"/>
            <a:chExt cx="1371600" cy="4826160"/>
          </a:xfrm>
        </p:grpSpPr>
        <p:sp>
          <p:nvSpPr>
            <p:cNvPr id="87" name=""/>
            <p:cNvSpPr/>
            <p:nvPr/>
          </p:nvSpPr>
          <p:spPr>
            <a:xfrm>
              <a:off x="5486400" y="1701720"/>
              <a:ext cx="0" cy="482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58000" y="1701720"/>
              <a:ext cx="0" cy="482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11960" y="198108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11960" y="25909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11960" y="380988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11960" y="320040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11960" y="44197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11960" y="62485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11960" y="563868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11960" y="502920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197760" y="1882800"/>
            <a:ext cx="2873160" cy="1343160"/>
            <a:chOff x="6197760" y="1882800"/>
            <a:chExt cx="2873160" cy="1343160"/>
          </a:xfrm>
        </p:grpSpPr>
        <p:sp>
          <p:nvSpPr>
            <p:cNvPr id="98" name=""/>
            <p:cNvSpPr/>
            <p:nvPr/>
          </p:nvSpPr>
          <p:spPr>
            <a:xfrm flipV="1">
              <a:off x="6197760" y="241308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95880" y="2568600"/>
              <a:ext cx="2074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Nitrogeno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Base (A,T,G or 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18840" y="1882800"/>
              <a:ext cx="2152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9688"/>
                  </a:solidFill>
                  <a:latin typeface="Arial"/>
                </a:rPr>
                <a:t>Rungs of ladder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883560" y="4168800"/>
            <a:ext cx="2172960" cy="1628280"/>
            <a:chOff x="6883560" y="4168800"/>
            <a:chExt cx="2172960" cy="1628280"/>
          </a:xfrm>
        </p:grpSpPr>
        <p:sp>
          <p:nvSpPr>
            <p:cNvPr id="102" name=""/>
            <p:cNvSpPr/>
            <p:nvPr/>
          </p:nvSpPr>
          <p:spPr>
            <a:xfrm flipV="1">
              <a:off x="6883560" y="447048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71120" y="4168800"/>
              <a:ext cx="197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9688"/>
                  </a:solidFill>
                  <a:latin typeface="Arial"/>
                </a:rPr>
                <a:t>Legs of ladder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72200" y="5159520"/>
              <a:ext cx="1984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Phosphate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Sugar Backb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DNA Double Hel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109" name="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9120" y="428292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9120" y="23781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2800" y="611172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0720" y="10666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0720" y="29718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80720" y="510552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23880" y="3200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00200" y="3962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38080" y="41148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33520" y="3581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33520" y="28954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09480" y="49528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38080" y="6248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62120" y="22096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09480" y="9907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143" name="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62920" y="23781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15200" y="44355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39240" y="60357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33960" y="579132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9920" y="42670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7640" y="22860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86400" y="3962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62720" y="32767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48520" y="3200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29400" y="3657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9400" y="41911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77120" y="5943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48520" y="4724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24480" y="2438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95880" y="11430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177" name="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71800" y="29876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0" y="29113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186" name="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62680" y="4664160"/>
              <a:ext cx="397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600" y="4664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Nitrogenous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234db"/>
                </a:solidFill>
                <a:latin typeface="Arial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YRIMID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Thymin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ytosine 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969160" y="4826160"/>
            <a:ext cx="1777680" cy="1473120"/>
            <a:chOff x="5969160" y="4826160"/>
            <a:chExt cx="1777680" cy="1473120"/>
          </a:xfrm>
        </p:grpSpPr>
        <p:sp>
          <p:nvSpPr>
            <p:cNvPr id="196" name=""/>
            <p:cNvSpPr/>
            <p:nvPr/>
          </p:nvSpPr>
          <p:spPr>
            <a:xfrm>
              <a:off x="5969160" y="4826160"/>
              <a:ext cx="1777680" cy="1473120"/>
            </a:xfrm>
            <a:prstGeom prst="hexagon">
              <a:avLst>
                <a:gd name="adj" fmla="val 30163"/>
                <a:gd name="vf" fmla="val 115470"/>
              </a:avLst>
            </a:prstGeom>
            <a:solidFill>
              <a:srgbClr val="3333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34480" y="5273640"/>
              <a:ext cx="12070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 or 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334840" y="1763280"/>
            <a:ext cx="3250440" cy="2554560"/>
            <a:chOff x="5334840" y="1763280"/>
            <a:chExt cx="3250440" cy="2554560"/>
          </a:xfrm>
        </p:grpSpPr>
        <p:sp>
          <p:nvSpPr>
            <p:cNvPr id="199" name=""/>
            <p:cNvSpPr/>
            <p:nvPr/>
          </p:nvSpPr>
          <p:spPr>
            <a:xfrm>
              <a:off x="6807240" y="2844720"/>
              <a:ext cx="1778040" cy="1473120"/>
            </a:xfrm>
            <a:prstGeom prst="hexagon">
              <a:avLst>
                <a:gd name="adj" fmla="val 30169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2200" y="3292560"/>
              <a:ext cx="1266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 or 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8044400">
              <a:off x="5606280" y="2052720"/>
              <a:ext cx="1527480" cy="150048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8:05:42Z</dcterms:created>
  <dc:creator>xpsetup</dc:creator>
  <dc:description/>
  <dc:language>en-US</dc:language>
  <cp:lastModifiedBy>user</cp:lastModifiedBy>
  <dcterms:modified xsi:type="dcterms:W3CDTF">2011-01-11T16:23:59Z</dcterms:modified>
  <cp:revision>18</cp:revision>
  <dc:subject/>
  <dc:title>DNA (Deoxyribonucleic Acid)</dc:title>
</cp:coreProperties>
</file>